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219456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B75-60D1-46DA-99F9-1517C749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3D1-7A61-4A33-8AFF-6F51523D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E68-668D-4DD0-8F59-280817D0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13A-5284-42F6-B918-A44AC684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AB0-B915-4C94-A2DE-1EDCB5FB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D46-1B1B-4CFE-9045-E0D7B8A5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C02-8200-4D72-9B72-EAAB300C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CE9-43C6-4511-B7C1-83224649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879480"/>
            <a:ext cx="296258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82D-8193-4EE0-AEEB-6A0818D6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1FC-9B7E-4AA0-81B8-D73BF0A9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3CD-2D10-4233-B8C6-8691A0F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76F-16D7-4BEB-9F36-0D669CB6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2548080" indent="-9813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3919680" indent="-7844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19984680"/>
            <a:ext cx="7680240" cy="152388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19984680"/>
            <a:ext cx="10423440" cy="152388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19984680"/>
            <a:ext cx="7680240" cy="152388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 algn="r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fld id="{3EA47A88-8A2D-4B72-AB90-9CC4AFACE2AC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89320" y="8500680"/>
            <a:ext cx="27424080" cy="1096956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Safety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alm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Connectin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Self-Efficacy </a:t>
            </a:r>
            <a:r>
              <a:rPr b="0" lang="en-US" sz="7500" spc="-1" strike="noStrike">
                <a:solidFill>
                  <a:srgbClr val="000000"/>
                </a:solidFill>
                <a:latin typeface="Arial Black"/>
              </a:rPr>
              <a:t>(I Can Do It)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0000" spc="-1" strike="noStrike">
                <a:solidFill>
                  <a:srgbClr val="000000"/>
                </a:solidFill>
                <a:latin typeface="Arial Black"/>
              </a:rPr>
              <a:t>Hope/Optimism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5760" y="455760"/>
            <a:ext cx="182520" cy="18738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66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267520" y="455760"/>
            <a:ext cx="182520" cy="2102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66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43440" y="21297960"/>
            <a:ext cx="27606600" cy="182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66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5760" y="455760"/>
            <a:ext cx="31994280" cy="182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66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27760" y="2009880"/>
            <a:ext cx="22304160" cy="493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3366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Impact"/>
              </a:rPr>
              <a:t>Five  Principles  of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336600"/>
                  </a:gs>
                  <a:gs pos="100000">
                    <a:srgbClr val="0000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3366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Impact"/>
              </a:rPr>
              <a:t>Psychological  First  Aid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336600"/>
                  </a:gs>
                  <a:gs pos="100000">
                    <a:srgbClr val="0000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11120" y="19286640"/>
            <a:ext cx="41036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2-16T15:11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