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918400" cy="219456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6F1F-E70E-4440-92E3-E9EA1847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296258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6280" y="12686040"/>
            <a:ext cx="296258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7776-F057-4D8D-8BE4-4BE6E634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760" y="512136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6280" y="1268604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760" y="1268604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7A51-034B-4414-99B9-7857CD3E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953928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920" y="5121360"/>
            <a:ext cx="953928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560" y="5121360"/>
            <a:ext cx="953928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6280" y="12686040"/>
            <a:ext cx="953928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920" y="12686040"/>
            <a:ext cx="953928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560" y="12686040"/>
            <a:ext cx="953928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CBA8-503A-44AD-A3D3-C2C0263B3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6280" y="5121360"/>
            <a:ext cx="29625840" cy="144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8204-4F61-4830-90BE-FADB20E7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29625840" cy="14482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A75E-2DB9-4446-A272-83E4A405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14457240" cy="14482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760" y="5121360"/>
            <a:ext cx="14457240" cy="14482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A6D5-A158-4E25-9EB5-1C1B3EEF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DAE1-08D6-4BFC-82CB-66737FFA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6280" y="879480"/>
            <a:ext cx="29625840" cy="169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9B45-6504-403E-9D8E-6D4984F1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760" y="5121360"/>
            <a:ext cx="14457240" cy="14482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6280" y="1268604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67E6-8551-4768-8640-399E1F79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14457240" cy="14482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760" y="512136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760" y="1268604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82AF-6E6C-43B5-B166-F27A5DB5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760" y="512136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6280" y="12686040"/>
            <a:ext cx="296258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D540-7D7F-4B41-BB5C-07DD6F24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6280" y="5121360"/>
            <a:ext cx="29625840" cy="14482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marL="1176480" indent="-117648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1" marL="2548080" indent="-981360">
              <a:spcBef>
                <a:spcPts val="2750"/>
              </a:spcBef>
              <a:buClr>
                <a:srgbClr val="000000"/>
              </a:buClr>
              <a:buFont typeface="Arial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2" marL="3919680" indent="-78444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3" marL="5486400" indent="-784080">
              <a:spcBef>
                <a:spcPts val="2750"/>
              </a:spcBef>
              <a:buClr>
                <a:srgbClr val="000000"/>
              </a:buClr>
              <a:buFont typeface="Arial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4" marL="7053120" indent="-78264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5" marL="7053120" indent="-78264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6" marL="7053120" indent="-78264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6280" y="19984680"/>
            <a:ext cx="7680240" cy="152388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Autofit/>
          </a:bodyPr>
          <a:lstStyle>
            <a:lvl1pPr indent="0">
              <a:buNone/>
              <a:tabLst>
                <a:tab algn="l" pos="0"/>
                <a:tab algn="l" pos="3135240"/>
                <a:tab algn="l" pos="6270480"/>
                <a:tab algn="l" pos="9406080"/>
              </a:tabLst>
              <a:defRPr b="0" lang="en-US" sz="4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47480" y="19984680"/>
            <a:ext cx="10423440" cy="152388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Autofit/>
          </a:bodyPr>
          <a:lstStyle>
            <a:lvl1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  <a:defRPr b="0" lang="en-US" sz="4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591880" y="19984680"/>
            <a:ext cx="7680240" cy="152388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Autofit/>
          </a:bodyPr>
          <a:lstStyle>
            <a:lvl1pPr indent="0" algn="r">
              <a:buNone/>
              <a:tabLst>
                <a:tab algn="l" pos="0"/>
                <a:tab algn="l" pos="3135240"/>
                <a:tab algn="l" pos="6270480"/>
                <a:tab algn="l" pos="9406080"/>
              </a:tabLst>
              <a:defRPr b="0" lang="en-US" sz="4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fld id="{265411D5-0550-453C-B4EF-112BCD79C3A8}" type="slidenum">
              <a:rPr b="0" lang="en-US" sz="4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5760" y="455760"/>
            <a:ext cx="182520" cy="18738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336600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267520" y="455760"/>
            <a:ext cx="182520" cy="21024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336600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43440" y="21297960"/>
            <a:ext cx="27606600" cy="182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336600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5760" y="455760"/>
            <a:ext cx="31994280" cy="182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336600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215040" y="2009880"/>
            <a:ext cx="20110320" cy="493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336600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Impact"/>
              </a:rPr>
              <a:t>Thoughts,  Feelings</a:t>
            </a:r>
            <a:endParaRPr b="0" lang="en-US" sz="96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336600"/>
                  </a:gs>
                  <a:gs pos="100000">
                    <a:srgbClr val="00000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336600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Impact"/>
              </a:rPr>
              <a:t>and  Actions</a:t>
            </a:r>
            <a:endParaRPr b="0" lang="en-US" sz="96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336600"/>
                  </a:gs>
                  <a:gs pos="100000">
                    <a:srgbClr val="00000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11120" y="19286640"/>
            <a:ext cx="4103640" cy="2284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843000" y="8591400"/>
            <a:ext cx="71834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560" rIns="313560" tIns="156600" bIns="156600" anchor="t">
            <a:noAutofit/>
          </a:bodyPr>
          <a:p>
            <a:pPr>
              <a:lnSpc>
                <a:spcPct val="100000"/>
              </a:lnSpc>
              <a:spcBef>
                <a:spcPts val="6188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 Black"/>
              </a:rPr>
              <a:t>Feelings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641800" y="11007000"/>
            <a:ext cx="3016080" cy="5224320"/>
          </a:xfrm>
          <a:prstGeom prst="line">
            <a:avLst/>
          </a:prstGeom>
          <a:ln w="228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2293640" y="11007000"/>
            <a:ext cx="3016080" cy="5224320"/>
          </a:xfrm>
          <a:prstGeom prst="line">
            <a:avLst/>
          </a:prstGeom>
          <a:ln w="228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35600" y="16819560"/>
            <a:ext cx="7912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560" rIns="313560" tIns="156600" bIns="156600" anchor="t">
            <a:noAutofit/>
          </a:bodyPr>
          <a:p>
            <a:pPr>
              <a:lnSpc>
                <a:spcPct val="100000"/>
              </a:lnSpc>
              <a:spcBef>
                <a:spcPts val="6188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 Black"/>
              </a:rPr>
              <a:t>Thoughts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292840" y="16819560"/>
            <a:ext cx="64533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560" rIns="313560" tIns="156600" bIns="156600" anchor="t">
            <a:noAutofit/>
          </a:bodyPr>
          <a:p>
            <a:pPr>
              <a:lnSpc>
                <a:spcPct val="100000"/>
              </a:lnSpc>
              <a:spcBef>
                <a:spcPts val="6188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 Black"/>
              </a:rPr>
              <a:t>Actions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482720" y="17824320"/>
            <a:ext cx="6032520" cy="0"/>
          </a:xfrm>
          <a:prstGeom prst="line">
            <a:avLst/>
          </a:prstGeom>
          <a:ln w="228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9-12-16T16:28:45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